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448-9DC8-4DE4-814A-EFE87807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3BC-F1B2-456A-833D-59D3649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E5C-A4D9-4D79-9B91-56B77DF8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478-C96A-4801-8A2A-2D72D09F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0D96-4BCF-4FCA-9E93-D59441D2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F3F4-60A2-41D0-AACC-E8FCBED7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9EBA-BD06-483F-A122-083CE51A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0EFE-81E6-4BE8-85E2-B7A28CA8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70A7-2451-47CE-AC72-8112D6A7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32B8-0ADB-4BCB-82AC-661526C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86A9-15F9-4E90-8401-77E1EFE6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C78-2086-4688-B5CF-31BCEA7A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C0F1-5ECC-4089-BCD5-DB94DE3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30E-6694-4382-95A3-4F337CD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FF68-02E4-4B2C-9774-B5B01F2F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9438-97D3-452D-B43D-D5E4A8BD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06B-77DC-4EA3-9E5E-B6C95E4A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E61AF-E0A9-4299-8C82-9248A875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EF7F0-4132-4B66-9822-A794F892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82D57-5883-438B-914A-870EEF1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427A8-72CC-45E5-9553-AAE2A51A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3C45D-959B-4481-82C3-9611EBB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225-9E30-4F57-8C11-3D2F7544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85BEF-7D3C-4055-A909-E87E352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57C1F-C68F-4C7E-BC6A-29782FD2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5BC71-F39C-4257-90B0-DD3704E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90D8F-C6C1-431E-83CD-7FA7E03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4A18B-B935-4054-AABE-FF29FBF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6E6A5-ADFD-43C8-B246-126B751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4173F-6564-48CB-B9CF-BFC762A6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5DBEE-9E24-4B8B-8EBA-C31B1CBA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4E83-0F3A-4EA9-B905-897EE99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AF60-4631-4975-9783-C50A1F1D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DB7-26A4-44A2-80AD-A0937940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D562-DBF2-433A-B8E2-6E7F2AD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7A3B-73C0-49D4-A6A6-7DC38DF3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FF28-571C-4BCA-88DD-FA902A3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4C1D-1EDE-42A7-B638-471750C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5B61-16D9-4952-A50E-86F1C13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F987-3FAE-4470-BB39-A713A1A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2B312-4DE5-4435-A3FD-6FEE274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E3D8-E3F9-4C52-B95F-EAD153A2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9FCC-0565-4D1A-B4E2-5B7DE6C1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FB061-93FC-4260-8860-C1E7D530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BA0-408B-445E-BC30-D0BD5A25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32599-758E-443F-AF45-4F188AA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E867A-D718-4094-9CDF-76D173D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1BDD2-5290-4D81-BBB3-CF7C346C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C3C19-22CF-41D1-9296-2A917FB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19AFF-DAA2-40E4-A7B0-E287AFD4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06DB8-CB33-406D-A8BD-BD92944A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5C1B9-E119-421D-A9B8-94C4094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C6E03-6073-4A59-884F-F151A84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896E0-FE2B-4F54-9933-0A192DA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EF747-80BD-43BB-A00A-06D251FB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480-2F15-44A5-818D-9E9FBF2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27E92-7214-4235-BC41-492938D9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497B7-806B-4029-BDA3-DB9D313B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3CB1C-DDEA-4577-AD5A-B2578ABD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49F65-3576-48B5-8E67-FE26BEE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31E12-0F76-4F91-A34E-78DB74EA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9EB4F-D3D9-459B-AE6A-E17EA111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2E713-14DC-41D4-82F5-F13120BF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5125C-A916-478F-B8DC-630EACC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20311-D749-462D-A7C8-3DF2B8B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03484-2D1B-4C94-A09D-3AF987C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B58-E306-4ECD-9327-A8B3CDF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0C6C0-3A5E-469F-9D87-6DA3097C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04F17-9959-4ACA-B882-3061C4BA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3D205-58A0-4258-9C9E-FDDFAE0E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710D9-98AF-444F-9B23-13CEC561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B213D-AB6E-4E98-B26C-1CF7330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8258E-2658-43A4-B7AA-C58D1A89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A112E-93BB-4C51-8AC2-60B49EC1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38BBE-69D4-43D9-B124-9B5611B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735FE-17DE-4921-BA22-F99AA2B9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33D75-FE8C-4F0B-A0C2-ACF0F94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508-79F1-4415-AC1B-E6B73BB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EB1B7-2524-45B1-A4A7-5027F642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6D356-64A5-419C-B534-DC279A9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013B2-4B1F-45CF-825F-FBDD13DF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4571E-1BCA-4719-B7B5-EADA25FB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820C2-0DBB-4740-B724-03D60A93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432-6315-4497-A9D2-51842F4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BC28-018E-4121-8E6D-C99A5C0691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D7F7-74D0-481A-97B0-6771524DCA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9215-FD85-46E4-BEE7-F54D81B660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FEB-2B53-4218-8C68-88FEAF24F6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5F4D-2F56-4AD3-9B42-B4CFE8D51D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E1ED-C33F-4D11-9E6C-97C76FE8BF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0ED-73AF-4FE0-A76C-2659238B7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ECHNOLOGY INTEG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hat Is Being Observed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EARLY TECH – ENTRY/ADOP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Occasional use of technology as a supplemen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mputer games used as a reward for completion of work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urfing Internet and checking email as a rewar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ill and practice softwar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al gam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tudents using technology individuall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DEVELOPING TECH - ADAPTA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5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of application software (i.e.word processor for student writing; teacher chooses the application) to complement selected instructional event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access electronic information and communication as applicable to learning objectiv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for cooperative projects in the classroo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for research and presentation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for presentation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ADVANCED TECH – APPROPRIA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create communities of inquiry within their commun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work with peers and experts in evaluating information, analyzing data and content to solve authentic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ols appropriate to convey knowledge and skills learned (students choose the applica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TARGET TECH – INVEN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66760" y="1438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echnology use is a process, product (e.g., invention, patent, new software design) and/or tool for students to find solutions related to an unidentified “real world” problem or issue of significan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of technology for student-centered learning in communities of inquiry with business, industry, and higher educ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complete activities that have been seamlessly integrated into all curriculum area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work collaboratively with other students in communities of inquiry to propose, assess, and implement solutions to real world problem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communicate effectively with a variety of audiences. Use technology to communicate effectively with a variety of audiences.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5:52:52Z</dcterms:created>
  <dc:creator>DPISDADMIN</dc:creator>
  <dc:description/>
  <dc:language>en-US</dc:language>
  <cp:lastModifiedBy>dkrautz</cp:lastModifiedBy>
  <dcterms:modified xsi:type="dcterms:W3CDTF">2009-12-11T12:47:15Z</dcterms:modified>
  <cp:revision>2</cp:revision>
  <dc:subject/>
  <dc:title>Technology Integration</dc:title>
</cp:coreProperties>
</file>